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94F-5515-4C59-B9A9-0D7CAA59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0C76-D2DF-4F86-9330-E575C854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240-AE0D-45E8-8F57-154FA32F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971-CD76-465B-9B68-74960D5C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4EB-05F1-434D-9B9E-70C92E65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84E-84F0-4732-8D0D-12D65804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E31D-EAFF-4F1A-BBD6-7A209723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208E-41C8-4987-A64B-20ACF307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7A0-D185-4E62-A1FE-ED3235DD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4AB-0BB9-42BB-A7DB-86DF5D2E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24D-0DF3-497C-8043-5AC883AA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E68-FFEC-4B18-BEF4-BD657453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CA28-7EA1-47E1-94F5-6ED996A60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D-MAIPU" descr=""/>
          <p:cNvPicPr/>
          <p:nvPr/>
        </p:nvPicPr>
        <p:blipFill>
          <a:blip r:embed="rId1"/>
          <a:srcRect l="26473" t="0" r="36557" b="0"/>
          <a:stretch/>
        </p:blipFill>
        <p:spPr>
          <a:xfrm>
            <a:off x="1700280" y="0"/>
            <a:ext cx="505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20:37:35Z</dcterms:created>
  <dc:creator>METRO S.A.</dc:creator>
  <dc:description/>
  <dc:language>en-US</dc:language>
  <cp:lastModifiedBy>METRO S.A.</cp:lastModifiedBy>
  <dcterms:modified xsi:type="dcterms:W3CDTF">2006-08-25T19:22:05Z</dcterms:modified>
  <cp:revision>2</cp:revision>
  <dc:subject/>
  <dc:title>Presentación de PowerPoint</dc:title>
</cp:coreProperties>
</file>